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E509F-846C-41EB-89CB-DCD5F081A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2AE6C-9F10-44A3-A159-04A03C9D8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AEF24-EE33-4602-93D9-DA16E55FD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E0950-2306-45CF-A942-6E8E92A31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E5B73-097A-496A-B129-CB30D88B0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08BBF-A931-4EC0-9B19-8A00335A1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FF415-7A0E-480D-9549-5E58616E2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5646D-DAC9-4F7F-85A5-630E89A37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F5DEB-15D1-429B-BFC8-1B38EE445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77BAE-26F2-4CF7-A518-6CFA6BF1A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75011-E0AE-4204-895A-42F81F38E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CFF09-03C6-4100-8845-650F71594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AF98B-B729-4B45-B380-23AD96567E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starpulse.com/Notables/Obama,_Barack/gallery/ADB-003279/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starpulse.com/Notables/Obama,_Barack/gallery/SDW-000785/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starpulse.com/Notables/Obama,_Barack/gallery/AAG-007685/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rrack Osam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19320" y="1752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ide show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Barack Obama-3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657600" y="3733920"/>
            <a:ext cx="1868400" cy="28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90360" y="533520"/>
            <a:ext cx="83818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presidential candidate, Osama exuded a populist appeal that won him legions of supporters and enabled him to cinch the nomination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Barack Obama-SDW-000785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943600" y="3581280"/>
            <a:ext cx="2644920" cy="31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young man, he attended Columbia University as a political science major, then held a job as a Manhattan financial counselor before growing listles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Barack Obama-AAG-007693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48320" y="3809880"/>
            <a:ext cx="4114800" cy="28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rrack Osama campaigned for the United States Presidency while serving as a Democratic senator in Illinoi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Back Obama-TTO-003406.jpg"/>
          <p:cNvPicPr/>
          <p:nvPr/>
        </p:nvPicPr>
        <p:blipFill>
          <a:blip r:embed="rId1"/>
          <a:stretch/>
        </p:blipFill>
        <p:spPr>
          <a:xfrm>
            <a:off x="5562720" y="3048120"/>
            <a:ext cx="291924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veritable household name during the 2008 presidential election (in which he won the Democratic nomination, roundly defeating Senator Hillary Rodham Clinton of New York)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Barack Obama-EKP-002379.jpg"/>
          <p:cNvPicPr/>
          <p:nvPr/>
        </p:nvPicPr>
        <p:blipFill>
          <a:blip r:embed="rId1"/>
          <a:stretch/>
        </p:blipFill>
        <p:spPr>
          <a:xfrm>
            <a:off x="5562720" y="4092480"/>
            <a:ext cx="2904840" cy="243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0T16:59:43Z</dcterms:created>
  <dc:creator>764232</dc:creator>
  <dc:description/>
  <dc:language>en-US</dc:language>
  <cp:lastModifiedBy>764232</cp:lastModifiedBy>
  <dcterms:modified xsi:type="dcterms:W3CDTF">2008-11-20T17:11:30Z</dcterms:modified>
  <cp:revision>2</cp:revision>
  <dc:subject/>
  <dc:title>Barrack Osama</dc:title>
</cp:coreProperties>
</file>